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5.jpeg" ContentType="image/jpeg"/>
  <Override PartName="/ppt/media/image32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9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13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A92F-9A59-4AF4-8574-530DE768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6B1-4E1A-430B-B925-58CB95A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36D-2576-4778-8815-BDAF5439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338-933D-43FE-831F-21B79632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DCEB-8BC3-4F95-941E-3C67B058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D5EF-9B77-4283-8D6D-7A0E026E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1D1D-DB2F-4A1D-B19A-98FDFD04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7D90-329D-4FEF-8FC4-273806EEE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D7A7-F9C1-48E6-908F-0ACE09B8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301FF-0798-4837-B45D-FA5BA0A2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21C0-0BF8-4B22-ACED-9256DB4C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43F-82CD-4A26-9281-0AFC1227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0EA5-D2D3-4D59-AFD4-B9FAFDA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E76ED-7B94-48B6-9DE4-94A4AD9F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24636-B019-4FB9-85E0-F9132794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F3A4F-4500-4A91-84AB-9DD89BE2F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A17A-8FDA-4267-8520-4CF7D832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0F2A-6215-47C7-B0F2-B2B08CC7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312-17A8-40F9-A156-327EE5B5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65E83-BDED-4560-9FCC-6E33074B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792E-C1B7-4226-8811-1E8A3569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35715-A8EE-478E-B70B-2D4D4384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595DA-2142-4686-86C1-4651D0B9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74AEC-30E1-44FA-8243-D9443E642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57AC6-4CA2-452F-BC5B-E4408301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154D-A658-43E7-BCD1-0532CD43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BEB9A-DDA1-4048-8CE2-93D426CB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3B6D9-19D3-423A-96BC-455306B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946EF-F409-4398-A487-983DF02B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D387E-15BE-420F-81AA-111C710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BD805-AE2A-48F9-BBDA-7BAE6E64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DD37-6C63-4C14-8ACF-250A9E68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A4FD2-F2DA-4571-A4CD-3D5CE2DB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43E4-C67E-4D81-BC94-9F3D7243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C030-7995-4B02-A345-77C0C2B4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AC9-C7E8-4B03-9CB1-FAD47A9F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EFB350-72BB-4428-890B-99FFC3AE65F8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73A57A-3696-472C-A5FB-24AA9A691A09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607090"/>
              </a:gs>
              <a:gs pos="100000">
                <a:srgbClr val="8d9ab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fffff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d9ab3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8d9ab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1C971-430D-478E-AA0F-B5C0384046FF}" type="slidenum">
              <a:rPr b="0" lang="en-US" sz="1400" spc="-1" strike="noStrike">
                <a:solidFill>
                  <a:srgbClr val="8d9ab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http://microbewiki.kenyon.edu/index.php/Image:Malaria_blood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en.wikipedia.org/wiki/Image:Trypanosoma_sp._PHIL_613_lores.jpg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8d9ab3"/>
                </a:solidFill>
                <a:latin typeface="Century Gothic"/>
              </a:rPr>
              <a:t>Protist</a:t>
            </a:r>
            <a:endParaRPr b="0" lang="en-US" sz="100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af03"/>
                </a:solidFill>
                <a:latin typeface="Century Gothic"/>
              </a:rPr>
              <a:t>General Biology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af03"/>
                </a:solidFill>
                <a:latin typeface="Century Gothic"/>
              </a:rPr>
              <a:t>Mr. Cobb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aramecium Structur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paramechighthumb.jp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5" name="Picture 3" descr="Paramecium"/>
          <p:cNvPicPr/>
          <p:nvPr/>
        </p:nvPicPr>
        <p:blipFill>
          <a:blip r:embed="rId1"/>
          <a:stretch/>
        </p:blipFill>
        <p:spPr>
          <a:xfrm>
            <a:off x="228600" y="1600200"/>
            <a:ext cx="4838760" cy="4280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paramechighthumb.jpg"/>
          <p:cNvPicPr/>
          <p:nvPr/>
        </p:nvPicPr>
        <p:blipFill>
          <a:blip r:embed="rId2"/>
          <a:stretch/>
        </p:blipFill>
        <p:spPr>
          <a:xfrm>
            <a:off x="5307120" y="1828800"/>
            <a:ext cx="3836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arameci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8" name="Content Placeholder 3" descr="Paramecium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79200" y="1752480"/>
            <a:ext cx="8452080" cy="48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30" name="Content Placeholder 3" descr="paramechighthumb.jpg"/>
          <p:cNvPicPr/>
          <p:nvPr/>
        </p:nvPicPr>
        <p:blipFill>
          <a:blip r:embed="rId1"/>
          <a:srcRect l="-42090" t="0" r="-42090" b="0"/>
          <a:stretch/>
        </p:blipFill>
        <p:spPr>
          <a:xfrm>
            <a:off x="-1219320" y="0"/>
            <a:ext cx="11638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porozoan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o not mo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arasit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lasmodium – causes malaria in the Anopheles mosquit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3" name="Picture 3" descr="image13"/>
          <p:cNvPicPr/>
          <p:nvPr/>
        </p:nvPicPr>
        <p:blipFill>
          <a:blip r:embed="rId1"/>
          <a:stretch/>
        </p:blipFill>
        <p:spPr>
          <a:xfrm>
            <a:off x="6781680" y="3774960"/>
            <a:ext cx="2362320" cy="29098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image25"/>
          <p:cNvPicPr/>
          <p:nvPr/>
        </p:nvPicPr>
        <p:blipFill>
          <a:blip r:embed="rId2"/>
          <a:stretch/>
        </p:blipFill>
        <p:spPr>
          <a:xfrm>
            <a:off x="685800" y="4572000"/>
            <a:ext cx="1924200" cy="1419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lasmodium in blood. Image from University of Tubin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3871800"/>
            <a:ext cx="2220840" cy="22543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3334680" y="613080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Ruptured Red blood cell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TextBox 7"/>
          <p:cNvSpPr/>
          <p:nvPr/>
        </p:nvSpPr>
        <p:spPr>
          <a:xfrm>
            <a:off x="7176960" y="640080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Life cyc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TextBox 8"/>
          <p:cNvSpPr/>
          <p:nvPr/>
        </p:nvSpPr>
        <p:spPr>
          <a:xfrm>
            <a:off x="553680" y="6130800"/>
            <a:ext cx="23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Anopheles Mosquit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lagellat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pel by one or more flagel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Known as Zooflagellat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using African Sleeping Sicknes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1" name="Picture 3" descr="24099-004-EB15ADB7"/>
          <p:cNvPicPr/>
          <p:nvPr/>
        </p:nvPicPr>
        <p:blipFill>
          <a:blip r:embed="rId1"/>
          <a:stretch/>
        </p:blipFill>
        <p:spPr>
          <a:xfrm>
            <a:off x="458640" y="3936960"/>
            <a:ext cx="2524320" cy="1473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190px-Trypanosoma_s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743280"/>
            <a:ext cx="3353040" cy="2382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lip_image001_0000"/>
          <p:cNvPicPr/>
          <p:nvPr/>
        </p:nvPicPr>
        <p:blipFill>
          <a:blip r:embed="rId4"/>
          <a:stretch/>
        </p:blipFill>
        <p:spPr>
          <a:xfrm>
            <a:off x="6858000" y="3763800"/>
            <a:ext cx="1828800" cy="1233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1072800" y="541008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setse Fl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4296600" y="6310440"/>
            <a:ext cx="15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rypansome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Unicellular or coloni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ound in all wate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ary food source for zooplankto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70% of photosynthesis on the plane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Picture 3" descr="hairalgae1.jpg"/>
          <p:cNvPicPr/>
          <p:nvPr/>
        </p:nvPicPr>
        <p:blipFill>
          <a:blip r:embed="rId1"/>
          <a:stretch/>
        </p:blipFill>
        <p:spPr>
          <a:xfrm>
            <a:off x="549360" y="4343400"/>
            <a:ext cx="3292560" cy="2468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algae in pool.jpg"/>
          <p:cNvPicPr/>
          <p:nvPr/>
        </p:nvPicPr>
        <p:blipFill>
          <a:blip r:embed="rId2"/>
          <a:stretch/>
        </p:blipFill>
        <p:spPr>
          <a:xfrm>
            <a:off x="5029200" y="4330800"/>
            <a:ext cx="321624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 Typ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Euglena (algae with flagell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reen Algae (stuff on the boat and pool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Golden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atoms (contain silica) (geometric shap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Brown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Red Alga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Dinoflagelletes ( contain 2 flagellas and cause red tides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53" name="Content Placeholder 3" descr="PSALG.jpg"/>
          <p:cNvPicPr/>
          <p:nvPr/>
        </p:nvPicPr>
        <p:blipFill>
          <a:blip r:embed="rId1"/>
          <a:srcRect l="-74633" t="0" r="-74633" b="0"/>
          <a:stretch/>
        </p:blipFill>
        <p:spPr>
          <a:xfrm>
            <a:off x="-1447920" y="0"/>
            <a:ext cx="11971440" cy="65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lgae sampl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55" name="Content Placeholder 3" descr="igb_alge2.jpg"/>
          <p:cNvPicPr/>
          <p:nvPr/>
        </p:nvPicPr>
        <p:blipFill>
          <a:blip r:embed="rId1"/>
          <a:srcRect l="-9244" t="0" r="-9244" b="0"/>
          <a:stretch/>
        </p:blipFill>
        <p:spPr>
          <a:xfrm>
            <a:off x="-152280" y="1401840"/>
            <a:ext cx="4724280" cy="25988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algae.jpg"/>
          <p:cNvPicPr/>
          <p:nvPr/>
        </p:nvPicPr>
        <p:blipFill>
          <a:blip r:embed="rId2"/>
          <a:stretch/>
        </p:blipFill>
        <p:spPr>
          <a:xfrm>
            <a:off x="4805280" y="1417680"/>
            <a:ext cx="3881520" cy="2583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hydrodiction.jpg"/>
          <p:cNvPicPr/>
          <p:nvPr/>
        </p:nvPicPr>
        <p:blipFill>
          <a:blip r:embed="rId3"/>
          <a:stretch/>
        </p:blipFill>
        <p:spPr>
          <a:xfrm>
            <a:off x="304920" y="4419720"/>
            <a:ext cx="3886200" cy="24382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volvox2.jpg"/>
          <p:cNvPicPr/>
          <p:nvPr/>
        </p:nvPicPr>
        <p:blipFill>
          <a:blip r:embed="rId4"/>
          <a:stretch/>
        </p:blipFill>
        <p:spPr>
          <a:xfrm>
            <a:off x="5110200" y="4267080"/>
            <a:ext cx="35766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0" name="Content Placeholder 3" descr="purple-diatoms-527157-sw.jpg"/>
          <p:cNvPicPr/>
          <p:nvPr/>
        </p:nvPicPr>
        <p:blipFill>
          <a:blip r:embed="rId1"/>
          <a:srcRect l="-18184" t="0" r="-18184" b="0"/>
          <a:stretch/>
        </p:blipFill>
        <p:spPr>
          <a:xfrm>
            <a:off x="304920" y="14176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3699360" y="6183360"/>
            <a:ext cx="18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Purple Diatom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General Characteristic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ukaryot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croscopic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General “catchall” kingdo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Like the “junk” draw in the kitchen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Described as:</a:t>
            </a: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Animal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Plant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ungus-lik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Euglena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lgae with a flagell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4" name="Picture 3" descr="Euglena.jpg"/>
          <p:cNvPicPr/>
          <p:nvPr/>
        </p:nvPicPr>
        <p:blipFill>
          <a:blip r:embed="rId1"/>
          <a:stretch/>
        </p:blipFill>
        <p:spPr>
          <a:xfrm>
            <a:off x="2819520" y="3124080"/>
            <a:ext cx="474660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6" name="Content Placeholder 3" descr="diatomclean.jpg"/>
          <p:cNvPicPr/>
          <p:nvPr/>
        </p:nvPicPr>
        <p:blipFill>
          <a:blip r:embed="rId1"/>
          <a:srcRect l="-13274" t="0" r="-13274" b="0"/>
          <a:stretch/>
        </p:blipFill>
        <p:spPr>
          <a:xfrm>
            <a:off x="-533520" y="2666880"/>
            <a:ext cx="5319720" cy="2925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diatoms-jj-001.jpg"/>
          <p:cNvPicPr/>
          <p:nvPr/>
        </p:nvPicPr>
        <p:blipFill>
          <a:blip r:embed="rId2"/>
          <a:stretch/>
        </p:blipFill>
        <p:spPr>
          <a:xfrm>
            <a:off x="4786200" y="2666880"/>
            <a:ext cx="39499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iatom of Red Alga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69" name="Content Placeholder 3" descr="diatoms of red algae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Desmid (Algae)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71" name="Content Placeholder 3" descr="desmid closterium.jpg"/>
          <p:cNvPicPr/>
          <p:nvPr/>
        </p:nvPicPr>
        <p:blipFill>
          <a:blip r:embed="rId1"/>
          <a:srcRect l="-12699" t="0" r="-12699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af03"/>
                </a:solidFill>
                <a:latin typeface="Century Gothic"/>
              </a:rPr>
              <a:t>Dinoflagelletes causing red tides</a:t>
            </a:r>
            <a:endParaRPr b="0" lang="en-US" sz="38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73" name="Content Placeholder 3" descr="red_tide_for_ed.jpg"/>
          <p:cNvPicPr/>
          <p:nvPr/>
        </p:nvPicPr>
        <p:blipFill>
          <a:blip r:embed="rId1"/>
          <a:srcRect l="-19852" t="0" r="-19852" b="0"/>
          <a:stretch/>
        </p:blipFill>
        <p:spPr>
          <a:xfrm>
            <a:off x="-990720" y="2438280"/>
            <a:ext cx="7167600" cy="4081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20081110006redtide1.jpg"/>
          <p:cNvPicPr/>
          <p:nvPr/>
        </p:nvPicPr>
        <p:blipFill>
          <a:blip r:embed="rId2"/>
          <a:stretch/>
        </p:blipFill>
        <p:spPr>
          <a:xfrm>
            <a:off x="5143680" y="318132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ungus-like Protist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Hetertrophic like Fungus but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llulose cell wal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ti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wo types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Watermold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035000" indent="-349200">
              <a:spcBef>
                <a:spcPts val="601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limemold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Watermold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The “stuff” growing on dead fish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aused Potato bligh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79" name="Picture 3" descr="watermold fish.jpg"/>
          <p:cNvPicPr/>
          <p:nvPr/>
        </p:nvPicPr>
        <p:blipFill>
          <a:blip r:embed="rId1"/>
          <a:stretch/>
        </p:blipFill>
        <p:spPr>
          <a:xfrm>
            <a:off x="152280" y="3051000"/>
            <a:ext cx="4724640" cy="35434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4" descr="watermold potato.jpg"/>
          <p:cNvPicPr/>
          <p:nvPr/>
        </p:nvPicPr>
        <p:blipFill>
          <a:blip r:embed="rId2"/>
          <a:stretch/>
        </p:blipFill>
        <p:spPr>
          <a:xfrm>
            <a:off x="5257800" y="3352680"/>
            <a:ext cx="3692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limemold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82" name="Content Placeholder 3" descr="slimemold1.jpg"/>
          <p:cNvPicPr/>
          <p:nvPr/>
        </p:nvPicPr>
        <p:blipFill>
          <a:blip r:embed="rId1"/>
          <a:srcRect l="-11025" t="0" r="-11025" b="0"/>
          <a:stretch/>
        </p:blipFill>
        <p:spPr>
          <a:xfrm>
            <a:off x="0" y="1600200"/>
            <a:ext cx="4710240" cy="2590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slimemold.jpg"/>
          <p:cNvPicPr/>
          <p:nvPr/>
        </p:nvPicPr>
        <p:blipFill>
          <a:blip r:embed="rId2"/>
          <a:stretch/>
        </p:blipFill>
        <p:spPr>
          <a:xfrm>
            <a:off x="4710240" y="3657600"/>
            <a:ext cx="415764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3 Types of Protist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otozoan – animal-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lgae – Plant-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Fungus - lik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Protozoan characteristic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icroscopic and unicellular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st are aquatic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Classified by locomotion (movement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Sarcodina Phylum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moeba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no body shap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Move slowly with a pseudopodiu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Responds to stimuli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Surrounds its food and engulfs i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3" descr="amoebalarge.jpg"/>
          <p:cNvPicPr/>
          <p:nvPr/>
        </p:nvPicPr>
        <p:blipFill>
          <a:blip r:embed="rId1"/>
          <a:stretch/>
        </p:blipFill>
        <p:spPr>
          <a:xfrm>
            <a:off x="4114800" y="1417680"/>
            <a:ext cx="351792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Amoeba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15" name="Content Placeholder 3" descr="Amoeba_bw.gif"/>
          <p:cNvPicPr/>
          <p:nvPr/>
        </p:nvPicPr>
        <p:blipFill>
          <a:blip r:embed="rId1"/>
          <a:srcRect l="0" t="-4332" r="0" b="-4332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Cilates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aramecium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54638c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Move by cil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overed with cilia (little hairs for movement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buClr>
                <a:srgbClr val="949fbf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Oral groove to take in foo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8" name="Picture 3" descr="Image155.gif"/>
          <p:cNvPicPr/>
          <p:nvPr/>
        </p:nvPicPr>
        <p:blipFill>
          <a:blip r:embed="rId1"/>
          <a:stretch/>
        </p:blipFill>
        <p:spPr>
          <a:xfrm>
            <a:off x="4724280" y="1600200"/>
            <a:ext cx="19036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Nassula Freshwater Cilia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0" name="Content Placeholder 3" descr="nassula fw ciliate.jpg"/>
          <p:cNvPicPr/>
          <p:nvPr/>
        </p:nvPicPr>
        <p:blipFill>
          <a:blip r:embed="rId1"/>
          <a:srcRect l="-8563" t="0" r="-8563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af03"/>
                </a:solidFill>
                <a:latin typeface="Century Gothic"/>
              </a:rPr>
              <a:t>Freshwater Ciliate</a:t>
            </a:r>
            <a:endParaRPr b="0" lang="en-US" sz="4200" spc="-1" strike="noStrike">
              <a:solidFill>
                <a:srgbClr val="ffaf03"/>
              </a:solidFill>
              <a:latin typeface="Century Gothic"/>
            </a:endParaRPr>
          </a:p>
        </p:txBody>
      </p:sp>
      <p:pic>
        <p:nvPicPr>
          <p:cNvPr id="222" name="Content Placeholder 3" descr="freshwater ciliate.jpg"/>
          <p:cNvPicPr/>
          <p:nvPr/>
        </p:nvPicPr>
        <p:blipFill>
          <a:blip r:embed="rId1"/>
          <a:srcRect l="-8563" t="0" r="-8563" b="0"/>
          <a:stretch/>
        </p:blipFill>
        <p:spPr>
          <a:xfrm>
            <a:off x="988920" y="2044800"/>
            <a:ext cx="716616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6T02:43:09Z</dcterms:created>
  <dc:creator>Jason Cobb</dc:creator>
  <dc:description/>
  <dc:language>en-US</dc:language>
  <cp:lastModifiedBy>jcobb</cp:lastModifiedBy>
  <dcterms:modified xsi:type="dcterms:W3CDTF">2012-04-19T14:34:00Z</dcterms:modified>
  <cp:revision>13</cp:revision>
  <dc:subject/>
  <dc:title>Protist</dc:title>
</cp:coreProperties>
</file>